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BCF7-0B01-41F2-A5DD-ECBC1455B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81AC-4B3A-45A2-9ED5-98D32F9D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4144-9916-4DC3-AE5B-886E7B25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E81F-00CF-4725-8547-89C6E5B36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1DCC-B137-4E97-80C8-FD1DEFDE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C6CE-BFD7-4D33-8025-6F313CFD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0A55-3481-4BAC-B397-B68D7ADA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4EAE-62BE-4382-8F3E-50A78DBB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3D38-1E53-4B1E-A115-4836A9DE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D574-1F63-4E75-8FE4-25A9E520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7E89-5AE8-4B99-96AC-812B9FDF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9829-AA21-4C26-87CE-1091ED83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C499-0AFE-4C16-AA82-7D3D1DFE1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ebinar.ipo.kpi.ua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viktorijaaleks@gmail.com" TargetMode="External"/><Relationship Id="rId2" Type="http://schemas.openxmlformats.org/officeDocument/2006/relationships/hyperlink" Target="mailto:ebogun@gmail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:\f\НМК\html IPO\img\logo_ipo.gif"/>
          <p:cNvPicPr/>
          <p:nvPr/>
        </p:nvPicPr>
        <p:blipFill>
          <a:blip r:embed="rId1"/>
          <a:stretch/>
        </p:blipFill>
        <p:spPr>
          <a:xfrm>
            <a:off x="0" y="0"/>
            <a:ext cx="1785960" cy="1757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00400" y="8380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таємо вас на вебіна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514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Синтаксис мови програмування С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51055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водиться за підтримки Студії освітніх вебінарі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ebinar.ipo.kpi.ua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ікрофон увімкнений тільки у ведуч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кщо ви хочете щось сказати, «підніміть руку», натиснувши на кноп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3. Беріть активну участь: пишіть повідомлення у текстовий чат, говоріть, виконуйте завд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1"/>
          <a:srcRect l="14436" t="33990" r="83336" b="61718"/>
          <a:stretch/>
        </p:blipFill>
        <p:spPr>
          <a:xfrm>
            <a:off x="1676520" y="2971800"/>
            <a:ext cx="717480" cy="876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00200" y="4572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Правила участі у вебіна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380880" y="838080"/>
            <a:ext cx="81536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ікторія Олександрі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iktorijaaleks@g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ype viktorijaale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ел. 050 487 29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049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Ведучий вебіна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297180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Модер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505320"/>
            <a:ext cx="6629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Юрий Миколайович Богачков, к.т.н. (Кие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Директор  Інституту перепідготовки і підвищення кваліфікації  НТУУ «КПІ»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http://ipo.kpi.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bogun@gmail.com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kype 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bogu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Тел. моб +(38066)-049-83-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3049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Найпростіша прог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12952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990720"/>
            <a:ext cx="3810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 (“hi, everybody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1143000"/>
            <a:ext cx="38102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Hell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ln (‘hi, everybody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990720" y="1980720"/>
            <a:ext cx="365760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219320" y="3123720"/>
            <a:ext cx="365760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4267080"/>
            <a:ext cx="3810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 (“hi, everybody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1143000" y="472392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5627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990033"/>
                </a:solidFill>
                <a:latin typeface="Arial"/>
              </a:rPr>
              <a:t>Назва функ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4800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5029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990033"/>
                </a:solidFill>
                <a:latin typeface="Arial"/>
              </a:rPr>
              <a:t>аргумент функ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3962520" y="4723920"/>
            <a:ext cx="7617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5181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990033"/>
                </a:solidFill>
                <a:latin typeface="Arial"/>
              </a:rPr>
              <a:t>Символ кінця 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8288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Імена змін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990720"/>
            <a:ext cx="7924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ерший символ ідентифікатору повинен бути буквою або знаком підкреслю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ступні символи можуть бути буквами, цифрами або знаками підкреслю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3352680"/>
            <a:ext cx="79246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!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..b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ll_face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25909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Правильно/неправиль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8288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Ініціалізація змін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990720"/>
            <a:ext cx="79246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at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=5.6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=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=‘g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1219320"/>
            <a:ext cx="6095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=  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оператор присвою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float </a:t>
            </a: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числа з плаваючою точк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int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цілі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char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имвольні дані</a:t>
            </a: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3520" y="990720"/>
            <a:ext cx="792468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ператор присвоювання  і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я_змінної=вир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ножинне присвоювання – одне і те ж значення можна присвоїти декільком змінни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=y=z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кладене присвоювання – для скорочення запи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приклад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=z+3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ожна записати я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+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ператор += повідомляє компілятору,що змінній необхід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исвоїти 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76520" y="38088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Операто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426708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Арифметичні опера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5181480"/>
            <a:ext cx="6172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+     -    * 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% остача від діл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-- зменшення       ++ збільшення на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53352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 x, 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x = 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 = 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intf("%d ", x/y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intf("%d ", x%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5181480"/>
            <a:ext cx="6400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d –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вести аргумент як ціл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–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вести аргумент як число  з плаваючою точк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295280"/>
            <a:ext cx="6858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#include &lt;stdlib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nt main(vo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nt magic; /* магічне число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nt guess; /* спроба ігрок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magic = rand(); /* генерація магічного числа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printf(«Угадай магічне число: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canf("%d", &amp;guess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f(guess == magic) printf("** Вірно **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38088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Умовний опер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22T21:29:38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